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581-B9D2-4663-8368-0DAF645B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43B-48F2-41AF-81C6-53B406C0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C8E-73BF-40E2-8F95-829DF6DD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5D4-4249-4CE1-8322-5BD33B09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91A1-2C5E-4D98-A09B-3A4F557E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EC15-B353-4286-905C-CFE7047E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A992-03BB-4407-A599-2F332882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8A99-D916-4625-8013-8F0A6819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674C-CD94-4269-A77E-B054934C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70FE-9FFC-4E31-A166-30BE5734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E9EE-715B-47B8-A565-AEBB42BA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365-5CFA-4DED-AEF8-C0218402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4497-D3F3-4D68-ACE8-126D7FE9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5925-1D1F-4A0C-9B59-7FA91569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981D-FCAF-482E-9772-F201E5B0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DEA7-78F8-444B-BE54-AD6C9672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7078-5DF0-4D23-B1BB-876CE888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7B1-C49F-4899-ABCA-75CE3973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F05A-1D8F-4C50-88DA-75F831AF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F56-9D77-44B0-A9F8-2E42DF9B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32F-DCAC-40B3-8DA1-A6365B50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E36-55E6-4952-98FB-748E2CCC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6F7-21DC-40A7-B44A-23C425B8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C8D-44C7-4B56-994C-6CBEFF0A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BB1D-111C-4EF5-B945-6EF0EC4AF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4DD0-A02C-4DB0-9E55-3953E368E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Long, O Lord?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pistle to the Hebr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27672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8019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3, Lesson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rews 7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61-6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acts About Melchizede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is a priest after the order of Melchizedek (Hebrews 7:1-1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ame Melchizedek was a title, meaning “King of Righteousnes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King of Salem, which means, “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Peac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chizedek was a priest of God most hi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unique: he remains a priest perpetually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acts About Melchizede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hing is said about his father or m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genealogy is gi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hing is said of the beginning of his days or the end of his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chizedek was greater than Abraham or Le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chizedek was a type of Chr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elchizedek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Meets Abram</a:t>
            </a:r>
            <a:br>
              <a:rPr sz="44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(Genesis 14:18-24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rescues Lot from the four k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chizedek brought bread and wine out to Abram and blessed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in turn gave Melchizedek a tithe (1/10) of all of the spoils from vic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guratively, Levi also gave tithes to Melchizedek before he was even bo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shows that the priesthood of Melchizedek and Christ was superior to the Levitical priesth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Need For A New Priesthood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itical priesthood not perfect - a change was necessary (Hebrews 7:11-1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order to change the priesthood, the law also had to ch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was of the tribe of Judah - He could have never have been priest under the old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ise was given by God that a priest would arise after the manner of Melchizedek (Psalm 110: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Levitical Priests Versus Jesu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vitical priests inherited their posi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priesthood perfect, why did God promise a new on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ld priests were wea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ery priest offered sacrif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i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ests were imperf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ests, High Priests, the tabernacle, and the sacrifices of the Old Testament were temporary and were copies of the real thing to c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rist received His by an endless lif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esus is completely adequate as our High Pri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esus is holy, without deceit, undefiled, and separated from sinn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offered His sacrifice once and for all, when He offered up Himsel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on is perfect fore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is a mediator of a better covenant with better promi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A New Covena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tabernacle served as a copy and shadow of the heavenly th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the High Priest, seated at the right hand of G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is a minister of the true tabernacle which the Lord erected and not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is also Mediator of a better covenant, which was established on better prom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rd said through Jeremiah that the days were coming when He would make a new covenant with the house of Israel and Judah (Jeremiah 31: 31-3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hrist Is Our High Pries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 entered heaven with His own bl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d of animals cleansed the fle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lood of Jesus cleanses the so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is mediator of a new covenant so that saints may have an eternal inheri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venly realities require a better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entered heaven itself, taking the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hrist Is Our High Pries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need to offer Himself frequently, because His sacrifice put away 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will return to take those who eagerly await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18:43:09Z</dcterms:created>
  <dc:creator>robert marshall</dc:creator>
  <dc:description/>
  <dc:language>en-US</dc:language>
  <cp:lastModifiedBy>Frank D Vines</cp:lastModifiedBy>
  <dcterms:modified xsi:type="dcterms:W3CDTF">2007-05-06T03:24:00Z</dcterms:modified>
  <cp:revision>6</cp:revision>
  <dc:subject/>
  <dc:title>How Long, O Lord?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95451867</vt:r8>
  </property>
  <property fmtid="{D5CDD505-2E9C-101B-9397-08002B2CF9AE}" pid="3" name="_AuthorEmail">
    <vt:lpwstr>robertdmarshall@bellsouth.net</vt:lpwstr>
  </property>
  <property fmtid="{D5CDD505-2E9C-101B-9397-08002B2CF9AE}" pid="4" name="_AuthorEmailDisplayName">
    <vt:lpwstr>Robert Marshall</vt:lpwstr>
  </property>
  <property fmtid="{D5CDD505-2E9C-101B-9397-08002B2CF9AE}" pid="5" name="_EmailSubject">
    <vt:lpwstr>Q13L10.ppt</vt:lpwstr>
  </property>
  <property fmtid="{D5CDD505-2E9C-101B-9397-08002B2CF9AE}" pid="6" name="_ReviewingToolsShownOnce">
    <vt:lpwstr/>
  </property>
</Properties>
</file>